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053-5B2F-4810-95D5-A0967FF4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A85-DA02-4856-9C02-30A9EBE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C81-3677-4422-9A90-82FAEBFA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DAB-5C8B-45BD-A918-2C0B317E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11B3-8CC6-40D6-989F-70A72C7E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52D6-7DA8-49CB-B73A-660AF1B6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B867-71FE-456F-ABA9-CEAC928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A6B-8F16-4F4B-8ADF-B290CE29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1A3A-0D5B-4504-A8AE-CE30AEF8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3DAC-BF87-4AA3-AE6B-49414BD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1E7F-1B1B-43EA-8C43-64BE9CA7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AC1-84BA-4EF7-B856-73F99CB8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165A-D988-4058-AE88-3947353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4DA5-A958-4288-BE86-A6A3A0B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FFEB-50C3-4966-88BB-57F64CA6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B0CF-8507-4AB3-A25C-AEDAADB1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9A4-A7C6-406F-AD8A-EC905B22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378-7348-4E10-84B5-C853CDEC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17E-F6E7-49B0-AAF2-6113C6C2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2A2-5EAE-41F7-8102-C8D489D0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9B2-5F93-43C7-92B0-15311A0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573-F2EE-4C76-BB0E-9AB9B77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A36-9362-4FA8-80A7-3DE75F1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FFC-C312-4F2D-A347-DE87A16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EEF4-A09A-4357-AF5C-F1BDC1941B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271C-6035-43EF-B27E-2EEA514A8C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2 Review/Test Outl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rt 1: Multiple Choice- Definitions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riteria, cultural region, diverse, geography, maritime (p. 27), mental map, physical features, and regions. (These Words are in the Glossary starting on page 250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3040" y="1447560"/>
            <a:ext cx="4343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rt 2 : Multiple Choice-Map Basics (p. 22 an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cal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andou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rt 3: Cultural Regions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List the Criteria we use to identify cultural regions (Hint: Common Elements of Culture – p. 1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rt 4:  Map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Use basic map skills to answer questions based on the map of N.B. provi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nus Question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Something to do with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bdoe</cp:lastModifiedBy>
  <dcterms:modified xsi:type="dcterms:W3CDTF">2007-10-18T10:39:3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